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308-F79B-4B91-8CAA-5207A8E4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2CF-F76A-47F0-AA8D-CE6D3052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826-3251-4FF4-B1A8-D86E11BD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EC6-439C-426E-8589-4682D31A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3827-5B45-4901-BCEE-8B6B3BB3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E83-3844-4B48-8DEC-D83D948D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7E9F-10C5-4C91-8459-9EB7988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C6F4-03A5-4788-9924-7CB1F75C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4D3F-F255-46B2-9296-1DF6EF37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21D4-18FE-47FA-A233-D69E54C7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A2D1-0D6B-468F-ADD5-2AB54A98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D81-2736-435A-A6FC-C71BA20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B380-5C30-488D-89EB-F731CD1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972D-B8A7-4A31-B56B-69FF94C5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6ABF-177C-4CF7-AAE8-ACAA858D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A8FF-1D79-4572-A810-8ECB59F7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EC3-3CDC-4E96-BD08-354AE637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F13-77D1-405B-A188-FE072DF0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2DE-7767-4C41-BF40-ED8782DB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CC3-3E86-4E3B-9E73-9547D808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3DD-19D3-441F-86F3-FBF085B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13F-743D-4957-93CC-BA1D382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17C-A168-497C-A6BA-1464B9B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F6F-598D-4ABB-892B-1D3F079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17D2-7DA7-41CB-BAA3-FAA6BBC7D146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736F-DFEB-4D0D-8061-7722E8D23AA2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crobelibrary.org/images/tterry/anim/phago053.html" TargetMode="External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1" name="" descr="Bacteria covered in antigens"/>
          <p:cNvPicPr/>
          <p:nvPr/>
        </p:nvPicPr>
        <p:blipFill>
          <a:blip r:embed="rId2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2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65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 immune system phagocytosis</dc:description>
  <cp:keywords>the immune system phagocytosis</cp:keywords>
  <dc:language>en-US</dc:language>
  <cp:lastModifiedBy>NicholasHardy</cp:lastModifiedBy>
  <dcterms:modified xsi:type="dcterms:W3CDTF">2009-09-17T03:16:18Z</dcterms:modified>
  <cp:revision>4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